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ED5-F17E-4F24-8CCF-5AC34634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C0C-70F0-4654-93AB-675DDE74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6C88F-BDCA-4218-84B1-B3FF05C5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4A7C1-12EE-49BB-9EAC-2FF1580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BD11F-2A3E-4325-AB86-C1C366B9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A5B93-8CF5-46C1-8064-1AA90599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7D7BF-53D3-4DDD-BAFF-801CA9AA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76407-57E1-46F9-AD94-86685BC6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2986B-AE8B-4963-A8EB-9FA5E498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18C81-D4A1-4ACC-BAC5-190DFD0C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BE142-A8C3-4FE4-84FA-240F87F6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1FF6F-F7FE-49FA-9A0A-C9CDFE7C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7B4-2D3F-4F3C-A5DE-7758EA0D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E206E-1AF7-4578-BE38-5B039740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90B24-8E17-432E-975C-D6F040EF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8D398-81DD-48C5-8A37-D6DEC70A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451EC-65D0-43E8-B5FB-B8E5FACB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D2BA3-CB6E-4D7A-A47F-F5130092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D439E-03CA-41B8-8210-9A2CB8EE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7B1D3-A471-44CB-9A9B-DF274F58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32C97-E52E-440B-B5C4-E9656D5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9D3AF-2136-49D9-AA0F-26DB929E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9F3C-BCDF-453A-95FA-20243EAA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4DB-5D66-4D54-B0E9-023FFD26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A7E42-FD09-43BF-A424-37BF8099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F4EC0-CD0C-46C0-8B2B-201BF459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F6209-490D-470A-97F0-FA72AD7E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05C23-9FE9-40DF-850A-7913A55C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1F38A-F299-42EF-8E2C-92BA5931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F3A2F-1261-4B34-B83E-B2FFE27D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E8EEB-9A0F-4C92-9F42-CA352C4C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11316-6E8F-4059-A9BC-2C3EF5EE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7C3F2-5EAE-41B1-8B94-550DBEC6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56A4D-872B-4B18-804F-C0A7B8E4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964A-CDC3-4AFA-A3DD-8740C3AF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5FD95-05E9-4624-86DA-BA98319E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551E6-A33B-48A6-876A-B26A8728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94CE7-1C8B-471A-863F-B476BC5C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182E6-DB3B-4DC2-82F6-4D730A5A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296C6-56C2-417C-B5AE-677C3D90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3B3F2-B2E8-4F77-BCB4-BD6E1448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03F2E-E2DA-4CAA-89A4-F68411D1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1D2FE-4D1D-4629-937A-649A94A9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738FC-75DB-4128-85E7-5F35BA17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7015D-18B8-40FD-AC17-B2C2B48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290A-6BD4-4A40-9F90-AE455CB9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01615-B9B9-4F5C-BD0D-C20EAA48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BA227-E32A-48F2-A8B9-71323D52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D4C45-B78F-4607-9FE4-0C4B7920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97546-C4A5-44D0-BA27-85C9971E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C9B98-AA67-43C7-84E8-020CDE16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79DD-0141-4247-AB55-792082B5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B8BE-7FA9-43A1-B108-7DBCE969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1C12-B885-4E72-983A-791227A6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5E7F-F6E4-49FE-94D3-C5FC1C31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074A-4757-4C50-A3B9-8A7E3C7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478-A9D0-470C-8869-B336961F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4BD7-F931-4E9A-9B5D-36EC7469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A197-556F-4591-BCB8-E75D96E9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7661-9F2A-40F7-B4A9-305876C4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A409-A3F1-4ECA-AA59-A3762C86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C5F2-6F92-4D52-84F5-3AAC6AB0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CEAF-B405-4EA2-A46D-AEA480A2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D15D-445C-4A32-AE48-609E8907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AA28-AFD0-474F-8971-7F75ECA0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5F28-947A-453C-A701-F8952F3C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5DD0-CB34-4D25-BE39-22CD7DE5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285-5FD4-4F39-AEB3-6E0F9754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7E889-D9E4-43B0-9B27-74B95476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915D-B590-4C81-9059-F0440211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3328-E182-4AAA-A96F-0B08864A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3AD4-AA1C-49E3-A965-8A5816E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CC68-860D-44A4-8F7A-8B0BF97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F9B3-4344-4EF9-9878-31D3D79E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DCC1-4045-40D9-9CAD-3BD2AA18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86481-BA35-4D7D-BDAD-2897FC39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2BFB-0545-4564-9EC5-F081D663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6F76-6897-4B78-B37B-5EF33354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D2B-DD22-482D-A5E2-2371BD0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11F5-5589-4272-AA90-CEA10F92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2B1D-8555-4E67-A848-2C6A16C0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A91C8-7E94-438C-B3F3-65368CEF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9D77-2B23-43A8-8A3B-031F87E6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703E-E966-4689-B12E-EE1C631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6D610-3238-469B-92A5-C4086824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AD1D-270F-430D-88A8-1D83F733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263A-CE50-4E63-96EA-4F74FBE1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0679-B920-41C3-B807-B81FBD35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F590A-A046-4C23-B39C-DBBBD218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81C-46C7-48E5-A2E5-2C502A3D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1799-F73A-4F19-9A67-72D46F9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C7A3A-3797-4562-8589-EF263EEA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00240-4B6C-4C89-B9EF-C97A52BF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5CF72-DE31-45AF-AD20-9DC0959C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C72D-E86A-469C-910A-6B443330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25115-33BE-470E-BE32-51763EBC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02048-BA7A-4DD6-924C-8F9CCD0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72863-FF84-4D2F-B83C-2BCBE975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3DC57-0AFF-4CFB-908F-80745DC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BCDF-E6CC-4EE9-8866-D8C3033C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C39-AACF-40DC-A3A8-BDE11227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4EC3-071B-4C80-8D0B-A3B6E719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9649F-BCFC-4E81-9050-89C460B8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40B37-810B-4F59-9FFC-A1420704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78A45-DCD7-45F4-BDA9-7D0F6D39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3FABE-A33C-4FA8-A2E3-F998D3FF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F102C-C9E4-4184-A5ED-E4176066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C456B-BE3D-4F3D-9871-08E71B14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5204A-94A4-4737-9BF7-5293AD78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08A1A-F977-4DD4-B8C5-9044BE7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A2519-B392-4563-AF5B-95C580A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8AE-2BBA-4CDA-8E39-A193910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3E561-268C-4E8C-9306-6DAC8F0A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EA3B6-5611-4B55-BB5E-F9CAA820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E4F70-E413-402A-8CEA-E06A9CCD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5B263-1648-478E-A1D6-602F5F3C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D72F4-33F4-4066-B153-E142D099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D2DFD-C78D-4499-B852-A04DCC0C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5C87B-C299-4DAA-A731-AADD85D0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A5D76-C383-42D2-BCA7-36230289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94E35-F2A1-445B-9D27-D8636549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397D2-6DAE-4441-9A26-5A7607B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ECA-7045-4793-B4F1-C1BD540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26BEB-FDBA-4F4A-8EED-776B75AD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195EE-DA91-4822-ACBF-47A1A91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62A6-E036-4FDD-8944-04D5F0B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DA52D-A97C-4FEF-AC36-4FF31708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2026E-ECE6-4927-AF9F-4579449A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45653-7139-44B0-91BF-A470D120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8B0B8-785C-47B8-AEA3-09B9E16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1EE7B-D5E7-41D6-A413-B4754CFB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29DEE-5DD8-48B3-8AAE-D6F878DA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9F0C6-A6EF-4DFE-B838-736E4199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087-FA83-4FEF-A4FB-29EEC87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AC111-2895-4EE9-82FA-83A1BCD0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710E6-7E12-468B-98BA-5FD2FB4F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3437D-364E-4021-B9D6-4DA33873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6FDDD-BDD6-4C91-B8A0-E851ADD9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4E520-572A-4104-8C8C-F768EBBF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98F4F-8D27-4E25-AE10-7B74AFCF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D6010-226C-4A3A-9413-5269ED96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F4481-6450-4903-ADF7-B455FB8D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3D0FF-1824-4BCC-B06D-D0DC73AF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05BBF-D68D-43E0-8661-E22C9323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4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024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1024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1024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1024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1024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1024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16FC-372B-4583-A994-E0196599C4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E9A4-7E7C-4B61-ACC8-B97258BC282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EB25-BA76-4E84-AED4-6FEC3ADDF97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6F5-D3F3-41B4-B622-626B459DAE1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126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1126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1126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1126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1126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1127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1127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DA5D-C969-44FC-B11F-793A51AFEA2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011B-FB3C-4E02-8886-C919C0C631D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8B04-EA9E-4778-B646-AEE5A340E4F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B18F-27C1-4737-BABD-BA608271B2F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BFF8-E732-4CFE-8AB4-1CBE1746F00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79AC-FE25-4EE8-9657-18D0013C443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5694-ED35-48CF-8570-982C259C517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0262-5521-4DD3-914C-4C8087C0144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7" descr="u=1521942418,1505818563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WordArt 8"/>
          <p:cNvSpPr txBox="1"/>
          <p:nvPr/>
        </p:nvSpPr>
        <p:spPr>
          <a:xfrm>
            <a:off x="3124080" y="685800"/>
            <a:ext cx="2667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雪梅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08" name="WordArt 9"/>
          <p:cNvSpPr txBox="1"/>
          <p:nvPr/>
        </p:nvSpPr>
        <p:spPr>
          <a:xfrm>
            <a:off x="3733920" y="30481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uFillTx/>
                <a:latin typeface="宋体"/>
              </a:rPr>
              <a:t>卢梅坡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509" name="雨果 - 梅花三弄.mp3" descr=""/>
          <p:cNvPicPr/>
          <p:nvPr/>
        </p:nvPicPr>
        <p:blipFill>
          <a:blip r:embed="rId4"/>
          <a:stretch/>
        </p:blipFill>
        <p:spPr>
          <a:xfrm>
            <a:off x="19051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6398ecd391685de1a9ec9a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3719160" y="1798560"/>
            <a:ext cx="127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27080" tIns="22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720240" y="2286720"/>
            <a:ext cx="2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3720240" y="2851920"/>
            <a:ext cx="2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3099240" y="3585240"/>
            <a:ext cx="2808360" cy="25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雪却输梅一段香。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3719520" y="3980880"/>
            <a:ext cx="42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3741120" y="4409640"/>
            <a:ext cx="5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， 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3720960" y="4898520"/>
            <a:ext cx="2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WordArt 13"/>
          <p:cNvSpPr txBox="1"/>
          <p:nvPr/>
        </p:nvSpPr>
        <p:spPr>
          <a:xfrm>
            <a:off x="3352680" y="1371600"/>
            <a:ext cx="2438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雪梅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8" descr="u=2072612233,2288342106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WordArt 6"/>
          <p:cNvSpPr txBox="1"/>
          <p:nvPr/>
        </p:nvSpPr>
        <p:spPr>
          <a:xfrm>
            <a:off x="4952880" y="304920"/>
            <a:ext cx="2590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宋体"/>
              </a:rPr>
              <a:t>作者简介</a:t>
            </a:r>
            <a:endParaRPr b="0" i="1" lang="en-US" sz="2400" spc="1" strike="noStrike" u="sng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4343400" y="2918880"/>
            <a:ext cx="403848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卢梅坡，南宋诗人。生卒年不详。历史关于他的记载很少，几乎没有，我们只能从他的诗词与别人的诗词中推测他简单的一些经历。 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他最有名的词就是两首雪梅了 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有梅无雪不精神，有雪无诗俗了人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日暮诗成天又雪，与梅并作十分春。 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骚人阁笔费评章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雪却输梅一段香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1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两首词可见这位文人的雅兴和志趣。他喜爱梅花应是到了极点 。</a:t>
            </a:r>
            <a:endParaRPr b="0" i="1" lang="en-US" sz="2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2162520" y="231228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2162520" y="280116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2162520" y="3229920"/>
            <a:ext cx="3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2162160" y="3779280"/>
            <a:ext cx="42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Rectangle 16"/>
          <p:cNvSpPr/>
          <p:nvPr/>
        </p:nvSpPr>
        <p:spPr>
          <a:xfrm>
            <a:off x="2162520" y="426816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Rectangle 17"/>
          <p:cNvSpPr/>
          <p:nvPr/>
        </p:nvSpPr>
        <p:spPr>
          <a:xfrm>
            <a:off x="2286360" y="4800240"/>
            <a:ext cx="3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2163600" y="5109480"/>
            <a:ext cx="2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7" descr="u=1734265470,4026799435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WordArt 8"/>
          <p:cNvSpPr txBox="1"/>
          <p:nvPr/>
        </p:nvSpPr>
        <p:spPr>
          <a:xfrm>
            <a:off x="1066680" y="609480"/>
            <a:ext cx="25909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雪梅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685800" y="3124080"/>
            <a:ext cx="2895480" cy="265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雪却输梅一段香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WordArt 10"/>
          <p:cNvSpPr txBox="1"/>
          <p:nvPr/>
        </p:nvSpPr>
        <p:spPr>
          <a:xfrm>
            <a:off x="5486400" y="762120"/>
            <a:ext cx="1981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注释</a:t>
            </a:r>
            <a:endParaRPr b="0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4495680" y="3701520"/>
            <a:ext cx="385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降（</a:t>
            </a:r>
            <a:r>
              <a:rPr b="0" i="1" lang="en-US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xiáng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），服输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阁，同“搁”，放下。评章，评议的文章，这里指评议梅与雪的高下</a:t>
            </a:r>
            <a:r>
              <a:rPr b="0" i="1" lang="zh-CN" sz="3200" spc="-1" strike="noStrike" u="sng">
                <a:solidFill>
                  <a:srgbClr val="9933ff"/>
                </a:solidFill>
                <a:uFillTx/>
                <a:latin typeface="Arial"/>
                <a:ea typeface="宋体"/>
              </a:rPr>
              <a:t>。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7" descr="u=393120433,63026645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WordArt 8"/>
          <p:cNvSpPr txBox="1"/>
          <p:nvPr/>
        </p:nvSpPr>
        <p:spPr>
          <a:xfrm>
            <a:off x="5791320" y="457200"/>
            <a:ext cx="2133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uFillTx/>
                <a:latin typeface="宋体"/>
              </a:rPr>
              <a:t>解释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sp>
        <p:nvSpPr>
          <p:cNvPr id="536" name="WordArt 9"/>
          <p:cNvSpPr txBox="1"/>
          <p:nvPr/>
        </p:nvSpPr>
        <p:spPr>
          <a:xfrm>
            <a:off x="1219320" y="609480"/>
            <a:ext cx="205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uFillTx/>
                <a:latin typeface="宋体"/>
              </a:rPr>
              <a:t>雪梅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uFillTx/>
              <a:latin typeface="宋体"/>
              <a:ea typeface="宋体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685800" y="3048120"/>
            <a:ext cx="3200400" cy="3080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雪却输梅一段香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4343400" y="3627360"/>
            <a:ext cx="4495680" cy="180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梅花和雪花都认为各自占尽了春色，谁也不肯服输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难坏了诗人，难写评判文章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说句公道话，梅花须逊让雪花三分晶莹洁白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雪花却输给梅花一段清香。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360" y="3534840"/>
            <a:ext cx="32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70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1080" y="388728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</a:t>
            </a:r>
            <a:endParaRPr b="0" i="1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7" descr="u=2079514108,2005755717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WordArt 8"/>
          <p:cNvSpPr txBox="1"/>
          <p:nvPr/>
        </p:nvSpPr>
        <p:spPr>
          <a:xfrm>
            <a:off x="609480" y="380880"/>
            <a:ext cx="2362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uFillTx/>
                <a:latin typeface="宋体"/>
              </a:rPr>
              <a:t>赏析</a:t>
            </a:r>
            <a:endParaRPr b="0" i="1" lang="en-US" sz="2400" spc="1" strike="noStrike" u="sng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3429000" y="312300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古今不少诗人往往把雪、梅并写。雪因梅，透露出春的信息，梅因雪更显出高尚的品格。如毛泽东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卜算子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·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咏梅</a:t>
            </a:r>
            <a:r>
              <a:rPr b="0" i="1" lang="en-US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2000" spc="-1" strike="noStrike" u="sng">
                <a:solidFill>
                  <a:srgbClr val="0099ff"/>
                </a:solidFill>
                <a:uFillTx/>
                <a:latin typeface="Arial"/>
                <a:ea typeface="宋体"/>
              </a:rPr>
              <a:t>中就曾写道：“风雨送春归，飞雪迎春到。已是悬崖百丈冰，犹有花枝俏。俏也不争春，只把春来报。待到山花烂漫时，她在丛中笑。”雪、梅都成了报春的使者、冬去春来的象征。但在诗人卢梅坡的笔下，二者却为争春发生了“摩擦”，都认为各自占尽了春色，装点了春光，而且谁也不肯相让。这种写法，实在是新颖别致，出人意料，难怪诗人无法判个高低。诗的后两句巧妙地托出二者的长处与不足：梅不如雪白，雪没有梅香，回答了“骚人阁笔费评章”的原因，也道出了雪、梅各执一端的根据。读完全诗，我们似乎可以看出作者写这首诗是意在言外的：借雪梅的争春，告诫我们人各有所长，也各有所短，要有自知之明。取人之长，补己之短，才是正理。这首诗既有情趣，也有理趣，值得咏思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7" descr="u=339281186,2431625507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WordArt 9"/>
          <p:cNvSpPr txBox="1"/>
          <p:nvPr/>
        </p:nvSpPr>
        <p:spPr>
          <a:xfrm>
            <a:off x="4572000" y="380880"/>
            <a:ext cx="3124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uFillTx/>
                <a:latin typeface="宋体"/>
              </a:rPr>
              <a:t>雪梅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uFillTx/>
              <a:latin typeface="宋体"/>
              <a:ea typeface="宋体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4495680" y="2743200"/>
            <a:ext cx="3505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梅雪争春未肯降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骚人阁笔费评章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梅须逊雪三分白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66ff"/>
                </a:solidFill>
                <a:uFillTx/>
                <a:latin typeface="Arial"/>
                <a:ea typeface="宋体"/>
              </a:rPr>
              <a:t>雪却输梅一段香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5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1:56Z</dcterms:created>
  <dc:creator/>
  <dc:description/>
  <dc:language>en-US</dc:language>
  <cp:lastModifiedBy>万润仪器贸易公司</cp:lastModifiedBy>
  <dcterms:modified xsi:type="dcterms:W3CDTF">2020-08-24T03:32:0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